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FE3-838F-4392-8341-65A4FEE9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296-8ABF-4FD9-9964-0A72E954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9BB-ED57-453F-AC38-BFD5E89B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909-ECD8-4BEA-9B54-E35589B2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F821-760C-4A3C-9298-7F7B14BD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241A-BB64-4D74-B3C8-E07DFC99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1FAF-970D-4FE3-BC57-D6C99AD3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50B4-A3DD-44B6-A514-D27AD63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71F0-60C6-44E5-BF67-AF5D6601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F09D-9BDA-4D6E-A20D-68712399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B39F-542C-4F0B-92FA-A12E2288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655-25FC-47C6-95F7-27148408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B107-1E35-439A-ABEC-1B96D382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2F75-24D3-4478-80EB-55E554D3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523C-BFE8-4238-B4B4-6A72495A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C974-F439-4186-85C2-5B205A61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C8CE-6387-4CA7-B101-2E8FF0E9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AB2-5FD2-4EA7-8814-DB822A86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2F7-D99A-4F12-9023-3E9AF416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A48-B799-49A3-9F6C-8A44FA3E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940-58B7-422E-A729-B239CA16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E17-D0DC-498F-97A3-CB9D8646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0FB-31BD-4B1D-B72C-B5D7727E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27F-625E-4CC8-A33E-5C77B79D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772A-8219-4C2A-AC39-21CF007C0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DBC-786A-497A-B5F0-A95A628E51B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Presentation Hints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Delivery Is Up to Yo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ive 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eye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makes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for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eep Something in Reserv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hidden slides to answer to difficult questions that might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Slide Navigator to display the hidden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ake the Presentation Hom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ence hando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aker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4T12:52:52Z</dcterms:created>
  <dc:creator>Robert Grauer</dc:creator>
  <dc:description/>
  <dc:language>en-US</dc:language>
  <cp:lastModifiedBy>Robert Grauer</cp:lastModifiedBy>
  <dcterms:modified xsi:type="dcterms:W3CDTF">1999-02-17T23:05:10Z</dcterms:modified>
  <cp:revision>11</cp:revision>
  <dc:subject/>
  <dc:title>Presentation Hints</dc:title>
</cp:coreProperties>
</file>