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DEF-099D-4930-A062-5038A589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B8C-EDDB-46DE-953F-4C2CF938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294-F8D6-42ED-BA6F-4450814B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CC8-344A-4F5A-A595-733B8F23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50EA-4E07-4AE6-BA79-36F4F145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818-CAD6-4271-A4BA-0F4125A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2BD5-523E-42A7-A7DD-C4DB387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0895-7D4E-4C4E-9B4F-655946B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5C2-7EBB-4A17-BE8F-F8BC1A4B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0366-E404-4EEE-8EA3-DBF09DC8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5DD3-F458-4D8D-A5FA-788FB7C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49F-B1A6-4122-978A-83411CB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5CD-2767-446C-8CC4-0D02457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5FEB-D1FE-4924-B214-070F24C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FC6-42E0-4857-BFF8-6224DC9A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C254-4C31-4DBA-A692-9ED4F86D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7440-2F0B-46B3-BE1A-A312FEC2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AE4-1AF1-444F-ACA6-261EC3A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B2D-2F15-4458-8B89-3C719E9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167-B81C-4EDA-83B8-39EDE1E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3F6-B954-44FB-8043-6C4B4660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CD4-9780-4AE7-9DC6-894CE37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178-C10F-452C-B4FF-5E7FBD1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617-0CE8-4F12-B3E7-EAA79FB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20D0-36D1-48B3-92D7-DC925AEB38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CE77-4495-4471-804A-3956245EB7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y Favorite President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00:12:10Z</dcterms:created>
  <dc:creator>Robert Grauer</dc:creator>
  <dc:description/>
  <dc:language>en-US</dc:language>
  <cp:lastModifiedBy>Maryann Barber</cp:lastModifiedBy>
  <dcterms:modified xsi:type="dcterms:W3CDTF">1998-10-08T01:31:06Z</dcterms:modified>
  <cp:revision>10</cp:revision>
  <dc:subject/>
  <dc:title>Abraham Lincoln (1861-1865)</dc:title>
</cp:coreProperties>
</file>