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752D-16FA-4649-8FB7-08BB98F24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1FAA-02C7-49B8-AD6F-341D691BA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F65C-4C48-43D6-8AF6-C9B3D43ED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A4BC-D6D5-4E39-BF79-E68A1B426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CCA96-92CB-4682-B192-7A8A2A96F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27830-C43E-4D9A-930F-D0DA3782B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FD60F-0D71-4659-931F-09C5680C1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671D9-01DF-4373-AD71-56C2C7F06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D2B03-AAD1-4224-849F-268628C6B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10A14-B300-4240-AEA6-01B262FE0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3194C-0268-41E2-8E0F-563BCD19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60A4-B9B8-4B73-9B04-3F1F8070F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87BE6-97DB-42DF-9C2B-37FF6702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13A94-07C9-46F5-8F02-1730B2BB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02E97-CF38-4157-8D5A-C0125C7AC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70152-3BFD-4DC2-8CD5-ADC685DF0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F0C52-E194-423A-A7FE-A92F50E4A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637D-D69B-4C9D-B852-CB9D3EBF9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2099-1B1D-44CD-8852-0C61C7FD2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6FB4-CC69-4F08-B176-096DBA109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5BBE-A95B-4FD2-B8E3-029C23E06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9F81-411C-49C3-B67F-E6EBC400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8B4A-94C5-40DF-8A89-CB78C1DF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069D-BC62-482F-A2A0-99E7CE4D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6DEA-E573-457A-B1B6-363CB03B2E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1240"/>
            <a:ext cx="16905240" cy="10793520"/>
            <a:chOff x="-7761240" y="1461240"/>
            <a:chExt cx="16905240" cy="1079352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1240"/>
              <a:ext cx="13452120" cy="10793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05" y="120"/>
                  </a:moveTo>
                  <a:arcTo wR="10800" hR="10800" stAng="-4887058" swAng="48870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05" y="120"/>
                  </a:moveTo>
                  <a:arcTo wR="10800" hR="10800" stAng="-4887058" swAng="4887058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DC3DE-576B-444B-92AC-ED4154EE32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ctr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ire a Marketing Whiz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970000" y="2362320"/>
            <a:ext cx="29732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ne Do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ersonal Data and Educ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00 142 Stre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ami, Florida 3317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305) 284-0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A - Miami-Dade Community College, 199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BA- University of Miami, 199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onors and Award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an’s L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ident’s L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standing Marketing Major, 199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ta Gamma Sig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lta Sigma P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tar Boa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ersonal Attribut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mbitio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rd wor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f motiv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am play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od communic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on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omputer Compet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ndows 9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crosoft Wo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crosoft Exc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crosoft Ac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crosoft PowerPoi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648320" y="2333520"/>
          <a:ext cx="3790800" cy="339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33520"/>
                    <a:ext cx="3790800" cy="33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ct Now!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vailable immediate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views arranged at your conveni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ll tra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ll 1-800-HIRE-J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648320" y="2395440"/>
          <a:ext cx="3800520" cy="32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95440"/>
                    <a:ext cx="380052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9-17T02:30:54Z</dcterms:created>
  <dc:creator>Maryann Barber</dc:creator>
  <dc:description/>
  <dc:language>en-US</dc:language>
  <cp:lastModifiedBy>Maryann Barber</cp:lastModifiedBy>
  <dcterms:modified xsi:type="dcterms:W3CDTF">1997-01-28T03:13:34Z</dcterms:modified>
  <cp:revision>4</cp:revision>
  <dc:subject/>
  <dc:title>Hire a Marketing Whiz</dc:title>
</cp:coreProperties>
</file>