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5A2-286F-4467-AF1F-9E94BCFC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357-FD3E-4E67-B055-5C50966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583-5584-438E-AE4E-7CFC028E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7EF-E35C-48EA-99AA-F78DD370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C5EA-B078-4B25-B730-5867258E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7884-45C9-47C1-8A1E-682D75C1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5325-4EAE-40E5-B49B-00609187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C874-3AB4-4EF5-B89E-FE1C6507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FAC2-E7B6-45AC-8A89-8E0E45E8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FB70-3276-4B1B-B692-4384FF8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F31A-FADA-471E-B48F-1C607EFD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3F6-43A6-4917-B22D-C80C8BAD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C7D1-2301-44AC-9F13-57F78FA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467E-50A1-4809-B20F-0F8B1C4A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32B6-BC67-4E4D-801C-2E9C087C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8DFB-20BE-41F0-BAC5-40C89F04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9AD7-4C82-4870-928A-77C9F164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82B-B808-4A89-83C3-9B972CE7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48F-8557-4606-876B-276DF7B0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DC0-0CF4-4599-B150-7D02687A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379-4AA5-4B87-95B7-239A4B6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F04-254F-47C6-B976-AF789DEC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121-F6FB-4582-98EC-EF8C9D4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4AF-BC8D-43BC-888D-CCE0855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77DC-DC73-4988-9AD9-D04EAF325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A892-C25B-4395-8527-CA7A57A1A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the Internet and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twork of net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in 1969 as ARPAnet (Advanced Research Projects Age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entral authority and thus impossible to state the precis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is not free just because you may not pay for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set of the Internet consisting of all computers with hypertext or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ocuments contain references (links) to other documents which may be on a different computer anywhere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in 1991 at the European Particle Physics Laboratory (CERN) in Switz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lient/Serv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ver (Web server or Web site) is any computer that stores then downloads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is any computer that requests then displays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lient must be able to display every document from every server and does so through a browser (e.g., Netscape  or Internet Explo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nyms A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 - HyperText Transfer Protocol is used to transmit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 secure protocol for confidential transactions (e.g., credit ca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- HyperText Markup Language is the language used to write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 - Transmission Control Protocol/ Internet Protocol - governs the flow of data across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guess at the URL using the general form of an  “www.company.co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microsof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nb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del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whitehouse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miami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vorite Web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ggestions for Sear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Search button on the Internet Explorer Tool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multiple search engines on on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ware of logical operators - AND, OR, an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on a concept; e.g., “first ladies” for “Eleanor Roosevel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bookmarks or favor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19320" y="533520"/>
            <a:ext cx="6781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ank You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Robert Grauer</cp:lastModifiedBy>
  <cp:lastPrinted>1996-09-30T15:23:14Z</cp:lastPrinted>
  <dcterms:modified xsi:type="dcterms:W3CDTF">1996-12-08T23:59:58Z</dcterms:modified>
  <cp:revision>23743</cp:revision>
  <dc:subject/>
  <dc:title>No Slide Title</dc:title>
</cp:coreProperties>
</file>