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09F-A565-4C01-B26E-89E000BF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470-8413-45F0-975B-E58CEE7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8D8-A8EF-4CA1-BD58-6DCDC319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826-B8B1-418C-9A0B-B3FB97BE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AE2-6463-41B2-821B-2471EFF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2C4-3AEF-4B83-B1C0-E0B1DC6A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E2A-F392-4A8D-9164-9A50F16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1E2-1BBC-44B9-A071-191EDAE6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AF0-7C52-4A82-8A33-880FE7E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B9B-90A4-47EF-A119-D2B9200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AE5-D8CE-4F7D-96CD-2DC2AAE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EFF-9A7B-497D-92DD-0431819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BAEA-80D6-47CA-8EB6-741269C67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riginal Clip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1840" y="1854360"/>
            <a:ext cx="40003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3:35:40Z</dcterms:created>
  <dc:creator>Maryann Barber</dc:creator>
  <dc:description/>
  <dc:language>en-US</dc:language>
  <cp:lastModifiedBy>Robert Grauer</cp:lastModifiedBy>
  <dcterms:modified xsi:type="dcterms:W3CDTF">1998-12-14T16:31:56Z</dcterms:modified>
  <cp:revision>9</cp:revision>
  <dc:subject/>
  <dc:title>What You Can Do With Clip Art</dc:title>
</cp:coreProperties>
</file>