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b">
            <a:noAutofit/>
          </a:bodyPr>
          <a:p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f0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ems to Re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tation is for next Thursday at 1:30 in room 4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he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 audience handouts for back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F80-93B2-4CCB-B4ED-A592E2A0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C4A-E14D-4908-BA4D-0DBBBA52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2BF-8FFD-4590-9AEE-661734D0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2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00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2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00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1BB-420A-4270-A89D-DC2A3F3E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54DD-CA90-48B2-B23F-53F3F40A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D6E6-0990-4496-9F3B-9D347A91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7081-4409-4543-879B-747681A1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2616-3D3A-4792-B919-DF220F2D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7D42-9F51-4267-8220-16880444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8C53-EB5E-4941-A9F2-5F035977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39D3-A275-4973-868A-D7EC1000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2C8-C1AE-41C5-A6FF-29F0980F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FE6E-CA2C-4F0E-94F6-EA14EA99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A5D7-C93A-4AF8-A70D-A2CB2565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1B12-8AA5-4404-ACD7-8C48ED26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19FB-76E8-4A52-81E3-36082A7D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F4CA-0E9F-416F-9BF5-8408A886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462-F7DF-4347-862B-6DDB263C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B72-92C5-4B6B-AA9A-93E1D0C4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0DD-5E95-46FF-9F0B-317E1845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C86-3B35-4006-8C2C-45C11919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35A-8794-43EA-A3AE-8D6A1FDC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EA4-BC56-43C4-B5B5-513C1EB4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2BA-1748-4E02-AA6A-47F13135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990720"/>
            <a:ext cx="6324480" cy="1052280"/>
            <a:chOff x="0" y="990720"/>
            <a:chExt cx="6324480" cy="1052280"/>
          </a:xfrm>
        </p:grpSpPr>
        <p:sp>
          <p:nvSpPr>
            <p:cNvPr id="1" name=""/>
            <p:cNvSpPr/>
            <p:nvPr/>
          </p:nvSpPr>
          <p:spPr>
            <a:xfrm>
              <a:off x="290520" y="109872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109872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152100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152100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44792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6080" y="1781280"/>
              <a:ext cx="60084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8FFE-E2F2-4FD4-A222-B25307550AA1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6324480" cy="1052640"/>
            <a:chOff x="0" y="2438280"/>
            <a:chExt cx="632448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6080" y="3228840"/>
              <a:ext cx="6008400" cy="3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f0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8F14-17EB-4DDE-BC9B-AD0A4C0B91DE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f01"/>
              </a:buClr>
              <a:buSzPct val="4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4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4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Introduction to PowerPoint</a:t>
            </a:r>
            <a:endParaRPr b="0" lang="en-US" sz="4400" spc="-1" strike="noStrike">
              <a:solidFill>
                <a:srgbClr val="ffcf0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81080" y="426672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ert Grauer and Maryann Bar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Essence of PowerPoin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focus on con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er your thoughts in an outline or directly on the individual sl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Point takes care of th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essionally designed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ormatted slide lay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dd Other Objects for Interes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part, WordArt, and organization ch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ts from Microsoft Exc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tographs from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and s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876920" y="2433600"/>
          <a:ext cx="3809880" cy="32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3600"/>
                    <a:ext cx="3809880" cy="32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Flexibility in Outpu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r pres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transpar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5mm sl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ence hand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no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562720" y="1828800"/>
          <a:ext cx="2895480" cy="29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828800"/>
                    <a:ext cx="289548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owerPoint is Easy To Lear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follows the same conventions as every Windows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uses the same menus and command structure as other Office appl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board shortcuts also apply such a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trl+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bold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 is only a mouse click a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143000" y="1752480"/>
            <a:ext cx="7467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The End</a:t>
            </a:r>
            <a:endParaRPr b="0" lang="en-US" sz="7200" spc="1" strike="noStrike">
              <a:ln w="9360">
                <a:solidFill>
                  <a:srgbClr val="000066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16T22:32:24Z</dcterms:created>
  <dc:creator>Maryann Barber</dc:creator>
  <dc:description/>
  <dc:language>en-US</dc:language>
  <cp:lastModifiedBy>Robert Grauer</cp:lastModifiedBy>
  <cp:lastPrinted>1998-05-07T16:09:11Z</cp:lastPrinted>
  <dcterms:modified xsi:type="dcterms:W3CDTF">1998-11-07T14:39:35Z</dcterms:modified>
  <cp:revision>25</cp:revision>
  <dc:subject/>
  <dc:title>Introduction to PowerPoint</dc:title>
</cp:coreProperties>
</file>