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A92-C47A-4BEC-9752-57E4546C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B52-5212-4D12-A58A-606B6D5A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AA8-5462-4C04-9EBC-BB00EBC6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1AD-F88E-417F-A78C-6C134975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F35-5048-4B9B-B146-11827654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FF7-BDD5-44D5-BEE8-8C3F60DC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AD8-5930-4CAD-B35C-7E55238E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1F3-8A68-46DD-AA70-86169A8E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AFCF-78C2-44F7-BC8C-5EA6DB35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32B-9501-44CE-A8ED-6263A71C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558-84F5-4DE0-8603-CBDA962B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1EB-7B37-447A-B027-27E539A7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CFD2-944D-4990-8577-866F27FB2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riginal Clip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71840" y="1854360"/>
            <a:ext cx="40003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2T03:35:40Z</dcterms:created>
  <dc:creator>Maryann Barber</dc:creator>
  <dc:description/>
  <dc:language>en-US</dc:language>
  <cp:lastModifiedBy>Robert Grauer</cp:lastModifiedBy>
  <dcterms:modified xsi:type="dcterms:W3CDTF">1998-12-14T16:31:56Z</dcterms:modified>
  <cp:revision>9</cp:revision>
  <dc:subject/>
  <dc:title>What You Can Do With Clip Art</dc:title>
</cp:coreProperties>
</file>