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6A7-2CC3-4F7E-87F9-6A187EEF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563-81CE-4267-892F-060326D5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908-AD23-4A1F-BC72-C1D45C3E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AB9-AB54-40A9-B5D3-0968EB5A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EBAB-9DCA-4CC8-B33A-E4B3A73E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FE09-FAB9-4D75-B072-5AF69307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C9E0-2A38-4B42-AF3A-4F8D9A43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26AC-6ED9-4F5D-B2CE-6B42492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D1FC-B9BA-4020-A84D-FAB7820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5A8D-1B01-480F-A6B2-378F84D0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7DCA-684D-4EA8-B11E-02A3C4F7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A71-751C-4EBA-BB4C-C4961A8A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CBDF-4E31-49D1-BEFB-CFB55168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0887-6F4F-4E9B-AFBB-1085315D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CD23-6004-4A25-B011-5D4F8286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2F27-E3F5-4DCB-97F2-ED1A0E1A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0A33-E850-42C2-92D0-A3811FD3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A6A-3D17-44C1-9741-18043F92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B53-AB36-4CDC-B535-26C71C6B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E24-F5D7-4309-B7E7-2107D9EF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BA0-E486-4932-88E4-8E02CBC7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2FB-EEC9-421F-96EB-06601211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8F0-103B-4D16-BDA2-B74F3322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858-31B3-41CD-94BF-1D59D52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C03B-596E-42F9-9B6E-E85872081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94C-5A57-43A6-981A-577C34993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the Internet and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twork of net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in 1969 as ARPAnet (Advanced Research Projects Age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entral authority and thus impossible to state the precis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is not free just because you may not pay for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set of the Internet consisting of all computers with hypertext or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ocuments contain references (links) to other documents which may be on a different computer anywhere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in 1991 at the European Particle Physics Laboratory (CERN) in Switz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lient/Serv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ver (Web server or Web site) is any computer that stores then downloads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is any computer that requests then displays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lient must be able to display every document from every server and does so through a browser (e.g., Netscape  or Internet Explo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nyms A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 - HyperText Transfer Protocol is used to transmit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 secure protocol for confidential transactions (e.g., credit ca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- HyperText Markup Language is the language used to write hypermedia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 - Transmission Control Protocol/ Internet Protocol - governs the flow of data across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guess at the URL using the general form of an  “www.company.co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microsof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nb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del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whitehouse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miami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vorite Web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ggestions for Sear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Search button on the Internet Explorer Tool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multiple search engines on on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ware of logical operators - AND, OR, an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on a concept; e.g., “first ladies” for “Eleanor Roosevel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bookmarks or favor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19320" y="533520"/>
            <a:ext cx="6781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ank You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Robert Grauer</cp:lastModifiedBy>
  <cp:lastPrinted>1996-09-30T15:23:14Z</cp:lastPrinted>
  <dcterms:modified xsi:type="dcterms:W3CDTF">1996-12-08T23:59:58Z</dcterms:modified>
  <cp:revision>23743</cp:revision>
  <dc:subject/>
  <dc:title>No Slide Title</dc:title>
</cp:coreProperties>
</file>