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5D74-2596-41AE-8BCC-8E11E674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D61-90B4-4312-914C-10A9886A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786-4A5E-4FC5-A974-E8267707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5AE4-A7A1-4AC6-BA19-D3E9418E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803C-6A0D-46D1-B6E4-E8B8F407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ED66-6DA5-4BEA-9FFE-3E102587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D404-243E-4CA4-94EA-E12540AE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AFD7-C5CA-4CF0-80C6-C56C3FB2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B276-1438-458D-B156-029098DF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5548-A1CA-4909-8866-0C4BA4CD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3D72-135C-475E-9A87-48958679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D71A-0DF6-486C-B6F9-84985AC0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8DEF-1ED3-45A9-9E10-0EC97E49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9D54-44A6-4BA6-9388-8FA0E888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0E7C-3433-4DD1-A148-742BBE0A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206F-2608-4BC2-9D24-64266A15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4511-5CA3-4590-A7CE-0BAC9973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42A-FAAF-45E3-80C2-32F8A0DF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762F-451A-4627-806C-AA07586E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E5A5-E53F-4D8A-BC22-A3876CED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E829-05CE-410C-9EEF-A7E7C363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00E-2848-4690-9D90-3D57F3D2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2E30-C874-4A9F-A4DD-DC2E429A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153-7D3E-41C0-BD28-040BDF05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6723-BE27-4BF2-B603-2D7FD525E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7F6F-71ED-49B5-8AF5-F419F5A400E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Presentation Hints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he Delivery Is Up to You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ive e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eye cont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makes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for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Keep Something in Reserv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hidden slides to answer to difficult questions that might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Slide Navigator to display the hidden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ake the Presentation Hom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ence hando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ine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aker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4T12:52:52Z</dcterms:created>
  <dc:creator>Robert Grauer</dc:creator>
  <dc:description/>
  <dc:language>en-US</dc:language>
  <cp:lastModifiedBy>Robert Grauer</cp:lastModifiedBy>
  <dcterms:modified xsi:type="dcterms:W3CDTF">1999-02-17T23:05:10Z</dcterms:modified>
  <cp:revision>11</cp:revision>
  <dc:subject/>
  <dc:title>Presentation Hints</dc:title>
</cp:coreProperties>
</file>