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C22-91B2-4A75-A17A-770AA2AC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F20-A100-4D66-AC83-F635C923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ED61-CA26-4E52-BDB0-F5EBF116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89A1-14F9-45AB-BC00-A4579DA2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F7D9-E5AA-494C-A2B8-C3E49A0F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BED6-4AAE-4D9C-BCD9-2F6FA744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E7CA-D6AB-4556-89F1-EFD5BFBC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B367-1884-497C-9BC8-5EE85404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F8A6-F3A1-4709-9528-44ECD03B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F9CE-B2E5-4B55-B237-3B1F5FE3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6F01-E4F5-4731-AD83-8C0FC2E8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E6D-26A6-4876-B48C-1A959DA4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774A-0D88-4118-8E7C-B68DCC88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181A-9B12-4402-B87E-395747BE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2312-3456-4BDB-9142-227BCF96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31D9-BB10-49C0-9292-2CEE3A00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7FC6-340C-45E6-AE0F-F88CC3E7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DB1C-9A74-4F92-9AB6-1ABDAE5E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3C14-607F-44F4-A1C6-16857B95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0EA8-05A3-4E9D-A909-7B1AE6DC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1F24-4CA8-47E7-979A-6AAA867E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2233-2E2E-4BB8-8F07-BC4DF77C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59D-3D55-4553-BA9C-53116FB7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D13-E293-4A52-9889-DB9C8C13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035A-4F6C-4C36-A345-6341620ED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D21C-2F3C-41AF-8073-62CDFB13C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re a Marketing Whi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970000" y="2362320"/>
            <a:ext cx="2973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ne Do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ersonal Data and Educ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00 142 Str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ami, Florida 331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05) 284-0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- Miami-Dade Community College, 19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BA- University of Miami, 19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nors and Awar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n’s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ident’s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standing Marketing Major, 199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a Gamma Sig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ta Sigma P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tar Bo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ersonal Attribu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bit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wor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 motiv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m play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communic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uter Compet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9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soft 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soft Exc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soft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soft Power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48320" y="2333520"/>
          <a:ext cx="3790800" cy="33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33520"/>
                    <a:ext cx="379080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 Now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ilable immedia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views arranged at your conven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tra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 1-800-HIRE-J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2395440"/>
          <a:ext cx="380052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95440"/>
                    <a:ext cx="38005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17T02:30:54Z</dcterms:created>
  <dc:creator>Maryann Barber</dc:creator>
  <dc:description/>
  <dc:language>en-US</dc:language>
  <cp:lastModifiedBy>Maryann Barber</cp:lastModifiedBy>
  <dcterms:modified xsi:type="dcterms:W3CDTF">1997-01-28T03:13:34Z</dcterms:modified>
  <cp:revision>4</cp:revision>
  <dc:subject/>
  <dc:title>Hire a Marketing Whiz</dc:title>
</cp:coreProperties>
</file>