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ems to Re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tation is for next Thursday at 1:30 in room 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 audience handouts for back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B33-FFAD-4280-B85F-3D2E4140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70A-2A18-4F9B-AEFD-3DC9D24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1E1-380F-4FD8-879A-3423FCE9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3BD-80E3-4218-9899-16331534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7D1-A3D5-4908-A01C-D0DB463F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290-CEC9-4142-95F3-548356D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57ED-5196-4FC2-9641-9C885AB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8130-451C-476D-A08A-74B20A15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9721-F663-4AC6-9403-EBB033E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8C56-5A36-4EC7-8B87-86484CA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2E27-5396-4851-B7BB-75D6E5C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393-4717-4A89-A4F2-0BB3F4DA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E9C6-87CC-46E4-9223-8838755E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2FF-F826-411C-8E9B-54DECB9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BB0-B199-46AD-9CCE-1761FC1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F0C7-E5CF-4D3D-BE5C-DFBD2AE4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6828-A585-4B9B-B6DC-9B86D2B1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0E3-8354-48AC-8485-0DC110DB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EA2-46B8-4A73-A180-FB4F57FF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B7A-2DA0-4B6C-9D87-53779FE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0AB-6C0A-4D9E-BD03-829B67B8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191-35D6-4F55-B2AF-26E7554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6D6-806C-4D33-9B91-FC81116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11F-11B5-4FB4-9DC5-C18B3A9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90720"/>
            <a:ext cx="6324480" cy="1052280"/>
            <a:chOff x="0" y="990720"/>
            <a:chExt cx="6324480" cy="1052280"/>
          </a:xfrm>
        </p:grpSpPr>
        <p:sp>
          <p:nvSpPr>
            <p:cNvPr id="1" name=""/>
            <p:cNvSpPr/>
            <p:nvPr/>
          </p:nvSpPr>
          <p:spPr>
            <a:xfrm>
              <a:off x="290520" y="10987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109872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15210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1521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4479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6080" y="1781280"/>
              <a:ext cx="60084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7F2-20CE-40E4-B90E-5B21A251556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6324480" cy="1052640"/>
            <a:chOff x="0" y="2438280"/>
            <a:chExt cx="632448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080" y="3228840"/>
              <a:ext cx="6008400" cy="3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1EC-26B2-4348-A935-7CCDB3A4164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4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4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4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Introduction to PowerPoint</a:t>
            </a:r>
            <a:endParaRPr b="0" lang="en-US" sz="4400" spc="-1" strike="noStrike">
              <a:solidFill>
                <a:srgbClr val="ffcf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81080" y="42667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Grauer and Maryann Bar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Essence of PowerPoi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focus on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er your thoughts in an outline or directly on the individual 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takes care of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ionally designed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ormatted slide lay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dd Other Objects for Interes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part, WordArt, and organization 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s from Microsoft Exc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graphs from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and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2433600"/>
          <a:ext cx="380988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3600"/>
                    <a:ext cx="380988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lexibility in Outpu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transpar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5mm 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ence hand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no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562720" y="1828800"/>
          <a:ext cx="28954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28954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owerPoint is Easy To Lear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follows the same conventions as every Windows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uses the same menus and command structure as other Office appl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board shortcuts also apply such a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trl+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bold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f0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 is only a mouse click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43000" y="175248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16T22:32:24Z</dcterms:created>
  <dc:creator>Maryann Barber</dc:creator>
  <dc:description/>
  <dc:language>en-US</dc:language>
  <cp:lastModifiedBy>Robert Grauer</cp:lastModifiedBy>
  <cp:lastPrinted>1998-05-07T16:09:11Z</cp:lastPrinted>
  <dcterms:modified xsi:type="dcterms:W3CDTF">1998-11-07T14:39:35Z</dcterms:modified>
  <cp:revision>25</cp:revision>
  <dc:subject/>
  <dc:title>Introduction to PowerPoint</dc:title>
</cp:coreProperties>
</file>