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AB2-490E-42E5-8F45-17C981D1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470-8B65-4CBC-BC7C-47AD5B64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D6E-20AD-4D1F-8A05-BCE8A97B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310-BCB4-4D14-BC23-84836BDC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4442-9783-4902-9A3D-EE912DC8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DCC9-D90A-4A55-B69B-C956D4FA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B6B8-794A-4968-8C47-383E1C2A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B1FD-1244-48BB-9F67-AAD6C1AE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EE05-5CFD-4F31-A31F-EAF63B6C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E945-AD5F-45F6-B75F-2B369788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9037-2038-496B-9C0A-9DB9528C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6E06-2484-4AC0-9111-D4D3EDE1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F3D9-E451-4BF8-9FDF-020EAB55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2ABC-A6D2-4292-80C2-6017E60C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1FF6-0028-495D-9270-6EA774D9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923A-3856-46F0-BC08-30E04D53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C609-B077-4AD3-B3A4-24AA97B1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A82-0711-4F8C-8072-D25CC4B9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38E-849A-40F0-AE92-BC930909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B27-2B6A-4783-968B-495F19A4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B77-23CE-47A8-81EC-6ADCC5ED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3E3A-6509-490A-8C42-EEF95103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B02-568B-40BA-B5B6-46B3E492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C58-E056-4005-A6F7-AB7A1DA9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99AC-9D4A-4C3D-8C16-7C8B20A1D0E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1828440"/>
            <a:ext cx="708516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9B8A-F108-4A94-83C6-585BE1F86CF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1828440"/>
            <a:ext cx="708516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y Favorite Presidents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10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00:12:10Z</dcterms:created>
  <dc:creator>Robert Grauer</dc:creator>
  <dc:description/>
  <dc:language>en-US</dc:language>
  <cp:lastModifiedBy>Maryann Barber</cp:lastModifiedBy>
  <dcterms:modified xsi:type="dcterms:W3CDTF">1998-10-08T01:31:06Z</dcterms:modified>
  <cp:revision>10</cp:revision>
  <dc:subject/>
  <dc:title>Abraham Lincoln (1861-1865)</dc:title>
</cp:coreProperties>
</file>